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5B6-065D-4D16-9F0A-B803D20C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054-E9AA-402D-ADAA-93F15F8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331-EC62-48D2-844B-DCC3988C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8A8-75E4-41CD-B9BA-036E6AB1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CBF0-6149-46F9-A5B8-79179DAE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4E67-ADE8-4B7E-B0E4-CF3DEC9F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E9E-C3E3-4E1A-BA6F-B70976E5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5ADF-21AC-4A88-99A7-FF4567EC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5757-3A01-4722-B5DB-4B82BC7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5471-81AC-4310-A927-3A991150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3961-0782-4896-9208-83466E62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F3A-56AD-4A47-8C25-B8893BC5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CB32-1433-461E-A4A4-86716FC3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8908-A189-4C3B-88A9-0384D8BE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4D8A-E83D-41A0-9932-4655C369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779A-3915-425C-8549-CC18E7D0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61BC-C1E6-4034-9180-BE6DBBC0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FB7-0027-488A-8737-0C75C3A5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0D1-E64B-4019-AD71-69301CB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D10-122F-43E3-B6D2-C5A7DBF3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FEF-C76D-4080-9A5A-2973124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D80-1F88-4DB8-A113-93F203C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B15-B0A0-4701-B53B-AD7480A8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692-ABA0-4B36-9999-D8CB5B0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36B6-A28D-41BE-89AA-36832BEEEA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8D7A-DE08-4550-8337-C4A3E51853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295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Матвеичев Алексей Валер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6668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Аутоиммунные заболевания и профилактическая вакцин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налитический обз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334120"/>
            <a:ext cx="5639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НИИЭМ им. академика И.Н. Блохи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33720" y="5335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Аутоиммунные заболевания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600200"/>
            <a:ext cx="73152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Широко распространены (поражено от 5 до 10% населения индустриально развитых стран), имеют хроническое т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основе имеют самоподдерживающийся ответ на свои антиг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драсположенность наследуется, чаще всего связана с аллелями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HC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ребуют для развития пусковой сигнал извне – тригг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риггерный сигнал часто связан с ингибированием метилирования Д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Verdana"/>
              </a:rPr>
              <a:t>Выдвинуто предположение о возможности патологической связи между вакцинацией и аутоиммунными заболеван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3880" y="2819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Исследуется связь вакцинации со следующими заболеваниями</a:t>
            </a: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6094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Рассеянный склер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609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индром Гийена-Бар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53341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Системная красная волча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52578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Сахарный диабет 1-го ти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921400">
            <a:off x="1905120" y="1676160"/>
            <a:ext cx="8380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7289400">
            <a:off x="6477120" y="1676160"/>
            <a:ext cx="8380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8414600">
            <a:off x="1904760" y="4266720"/>
            <a:ext cx="838440" cy="838080"/>
          </a:xfrm>
          <a:prstGeom prst="leftArrow">
            <a:avLst>
              <a:gd name="adj1" fmla="val 50000"/>
              <a:gd name="adj2" fmla="val 2501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4150400">
            <a:off x="6628680" y="4266720"/>
            <a:ext cx="838440" cy="838080"/>
          </a:xfrm>
          <a:prstGeom prst="leftArrow">
            <a:avLst>
              <a:gd name="adj1" fmla="val 50000"/>
              <a:gd name="adj2" fmla="val 2501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0" y="457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Verdana"/>
              </a:rPr>
              <a:t>Связь с синдромом Гийена-Бар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905120"/>
            <a:ext cx="7772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едположена для вакцин против гриппа после кампании вакцинации в 1976 году в 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 обнаружена последующими исследованиями в конце 1970-х - середине 1990-х г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3600" indent="-93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а данный момент НЕ ПОДТВЕРЖД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7242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CDC</a:t>
            </a: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 предполагает появление 0,8-1 дополнительного случая синдрома Гийена-Барре на 1 миллион доз вакцины в случае проведения массовых иммуниз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57400" y="380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Связь с рассеянным склер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371600"/>
            <a:ext cx="7315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ена для рекомбинантной вакцины против гепатита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ана на экспериментах с вакцинацией животных рекомбинантными бел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анные исследований наиболее противоречивы из всех изучаемых раб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3809880"/>
            <a:ext cx="7632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анные 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анные ПРОТИ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4191120"/>
            <a:ext cx="358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линические случа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нализы базы данных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A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1911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анные локальных эпидемиологических исслед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571500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Связь НЕ ДОКАЗАНА, но есть единичные данные об антигенной мимикрии между белком комплекса миелина и 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HB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57400" y="60948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Связь с системной красной волчан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209680"/>
            <a:ext cx="6553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ена для вакцины против гепатита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основе клинических случа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личество доступных работ м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ханизм на данный момент НЕ ОБОЗНАЧЕН, существуют только теоретические пред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4419720"/>
            <a:ext cx="632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Предполагается низкий риск для женщин, предрасположенных к иммунокомплексным заболеваниям по аллелям </a:t>
            </a:r>
            <a:r>
              <a:rPr b="1" lang="en-US" sz="1800" spc="-1" strike="noStrike">
                <a:solidFill>
                  <a:srgbClr val="ffff66"/>
                </a:solidFill>
                <a:latin typeface="Verdana"/>
              </a:rPr>
              <a:t>HLA</a:t>
            </a: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, однако экспериментально гипотеза не подтвержд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На данный момент связь НЕ ДОКАЗ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905120" y="6094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Связь с сахарным диабетом 1-го ти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18288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динственное исследование, где предполагалась как патологическая, так и протективн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2819520"/>
            <a:ext cx="7632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ективн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27432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атологическая 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33526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БЦ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ревая вакц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3276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акцина против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emophilus influenza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4724280"/>
            <a:ext cx="655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Прямая связь с введением вакцины как иммуностимулятора НЕ ДОКАЗАНА в обоих случа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ВОЗМОЖНО снижение заболеваемости диабетом как следствие ликвидации триггерных инфекционных заболе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76520" y="5335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Вакцинация пациентов с аутоиммунными заболеван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2209680"/>
            <a:ext cx="7086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зопасна, если проводится вне периодов обострений и неживыми вакцин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ребует учета применяемой иммуносупрессивной терапии в каждом конкретном случа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ффективна, однако в меньшей степени, чем у здоровы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2-03-28T07:49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