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223C-9032-452A-AA64-AB1E543B93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14BA-F785-43AA-AC37-A9AD3ACF1B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1699-D66C-4757-8F29-724A2F20E2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096C-5546-4886-BCBC-D507A95293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932A-F051-470B-ACF7-411558870C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8573-8C32-488F-A86E-7071DA7E44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F46D-F21D-4026-9C44-FA6D4C0862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D7BA-6E6F-435E-9B71-40C2759A1D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AF0A-0BCF-4612-81C7-77B3F9A0F0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3D2F-0E4E-4146-8F4B-2988CA3A81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85AD-C9C5-44A8-BB28-DA33AC00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39B8-C7C4-43D8-8FFE-972BE232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D6BA-C166-43DB-8B53-3D7A5328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36AD-670F-4CDF-B4FA-3B4E2DC1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18AD-3B50-4340-BE98-1C459E01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1AAC-9A34-4240-9381-7A9E6775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52BD-0CE9-4450-8220-0B450D3E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A675-9C3B-4ED4-ADA6-EDE8B4D1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2211-5600-4DEC-8771-45840593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CA53-C1D7-445B-8562-772F045D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2FA3-F38C-4A23-8554-4836F767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EA6A-768F-440A-8321-CB994508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BE8A-4479-45EE-BF18-DC846099FF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904760"/>
            <a:ext cx="797868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ПРИМЕНЕНИЕ </a:t>
            </a:r>
            <a:r>
              <a:rPr b="1" lang="en-US" sz="4000" spc="-1" strike="noStrike">
                <a:solidFill>
                  <a:srgbClr val="323232"/>
                </a:solidFill>
                <a:latin typeface="Cambria"/>
              </a:rPr>
              <a:t>ГИС-ТЕХНОЛОГИЙ</a:t>
            </a: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 В МОНИТОРИНГЕ ЭПИДЕМИОЛОГИЧЕСКОЙ СИТУАЦИИ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834920" y="5157720"/>
            <a:ext cx="64609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Солнцев Леонид Аркадье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ННГУ, НИИМБР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Аналитические исследования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фриканская чума свиней (АЧС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аиболее значимые факторы риска завоз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лотность населённых пун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лотность дорожного покры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адач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ыявить риск завоза АЧС на различные районы Нижегород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сходные данны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рта населённых пунктов Нижегород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рта дорожного покры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mbria"/>
              </a:rPr>
              <a:t>Карта населённых пунктов Нижегородской области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2"/>
          <a:stretch/>
        </p:blipFill>
        <p:spPr>
          <a:xfrm>
            <a:off x="871560" y="1600200"/>
            <a:ext cx="6791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" y="-360"/>
            <a:ext cx="8379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mbria"/>
              </a:rPr>
              <a:t>Карта плотности населённых пунктов на территории </a:t>
            </a:r>
            <a:br>
              <a:rPr sz="3200"/>
            </a:br>
            <a:r>
              <a:rPr b="1" lang="en-US" sz="3200" spc="-1" strike="noStrike">
                <a:solidFill>
                  <a:srgbClr val="323232"/>
                </a:solidFill>
                <a:latin typeface="Cambria"/>
              </a:rPr>
              <a:t>Нижегородской области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2"/>
          <a:stretch/>
        </p:blipFill>
        <p:spPr>
          <a:xfrm>
            <a:off x="871560" y="1600200"/>
            <a:ext cx="6791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mbria"/>
              </a:rPr>
              <a:t>Карта дорожного покрытия Нижегородской области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2"/>
          <a:stretch/>
        </p:blipFill>
        <p:spPr>
          <a:xfrm>
            <a:off x="871560" y="1600200"/>
            <a:ext cx="6791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mbria"/>
              </a:rPr>
              <a:t>Карта плотности автодорог на территории </a:t>
            </a:r>
            <a:br>
              <a:rPr sz="3200"/>
            </a:br>
            <a:r>
              <a:rPr b="1" lang="en-US" sz="3200" spc="-1" strike="noStrike">
                <a:solidFill>
                  <a:srgbClr val="323232"/>
                </a:solidFill>
                <a:latin typeface="Cambria"/>
              </a:rPr>
              <a:t>Нижегородской области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78" name="Объект 2" descr=""/>
          <p:cNvPicPr/>
          <p:nvPr/>
        </p:nvPicPr>
        <p:blipFill>
          <a:blip r:embed="rId2"/>
          <a:stretch/>
        </p:blipFill>
        <p:spPr>
          <a:xfrm>
            <a:off x="871560" y="1600200"/>
            <a:ext cx="6791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232"/>
                </a:solidFill>
                <a:latin typeface="Cambria"/>
              </a:rPr>
              <a:t>Схема пространственного анализа</a:t>
            </a: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rcRect l="3189" t="7318" r="3189" b="5018"/>
          <a:stretch/>
        </p:blipFill>
        <p:spPr>
          <a:xfrm>
            <a:off x="23760" y="1557360"/>
            <a:ext cx="82026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232"/>
                </a:solidFill>
                <a:latin typeface="Cambria"/>
              </a:rPr>
              <a:t>Пространственная визуализация риска завоза АЧС </a:t>
            </a: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2"/>
          <a:stretch/>
        </p:blipFill>
        <p:spPr>
          <a:xfrm>
            <a:off x="871560" y="1600200"/>
            <a:ext cx="6791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23232"/>
                </a:solidFill>
                <a:latin typeface="Cambria"/>
              </a:rPr>
              <a:t>Спасибо за внимание!</a:t>
            </a:r>
            <a:endParaRPr b="0" lang="en-US" sz="6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Понятие ГИС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8920" y="1599840"/>
            <a:ext cx="820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И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это современная компьютерная технология для картирования и анализа объектов реального мира, также событий, происходящих на нашей плане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7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И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ъединяет традиционные операции работы с базами данных, такими как запрос и статистический анализ, с преимуществами полноценной визуализации и географического (пространственного) анализа, которые предоставляет кар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Составные части ГИС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0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ппаратные сре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граммное обеспечение ГИ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Дан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полн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Задачи, которые решает ГИС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в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анипул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апрос и анали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изуализ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Возможности ГИС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599840"/>
            <a:ext cx="820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елать пространственные запросы и проводить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Улучшить интеграцию внутри организа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ринятие более обоснованных решений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оздание карт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Применение ГИС в эпидемиологии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841040"/>
            <a:ext cx="84470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spcAft>
                <a:spcPts val="601"/>
              </a:spcAft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нтрализованный сбор и хранение информации о пространственном распределении регистрируемых вспышек заболев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spcAft>
                <a:spcPts val="601"/>
              </a:spcAft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томатизированный анализ этих данных с целью выявления закономерностей, обусловленных сходством природных и социально-экономических факторов на различных территор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spcAft>
                <a:spcPts val="601"/>
              </a:spcAft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здание электронных и бумажных карт для отображения эпидемиологической ситуации как в отдельно взятых регионах, так и в мире в цел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spcAft>
                <a:spcPts val="601"/>
              </a:spcAft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здание карт риска, отображающих вероятность заноса/возникновения определённого заболе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Практика использования ГИС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народ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GisVET (в последние годы – GEOV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nosisG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Journal of Health Geograp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ГУ «Всероссийский центр здоровья животных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г. Владими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ГУН Государственный научный центр прикладной микробиологии и био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Практические возможности использования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ртирование текущей ситуации. Создание атласов эпидемиологической об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полнение аналитических исследований. Генерация новой информации на основе имеющей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755640" y="112392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7920" y="4437000"/>
            <a:ext cx="326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ные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ГУН Нижегородски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чно-исследовательский институт эпидемиологии и микробиологии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м. акад. И.Н.Блохи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спотребнадзо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18000" y="172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mbria"/>
              </a:rPr>
              <a:t>Картирование текущей ситуации</a:t>
            </a:r>
            <a:endParaRPr b="0" lang="en-US" sz="4400" spc="-1" strike="noStrike">
              <a:solidFill>
                <a:srgbClr val="32323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9:57:45Z</dcterms:created>
  <dc:creator>Jerry</dc:creator>
  <dc:description/>
  <dc:language>en-US</dc:language>
  <cp:lastModifiedBy>Админ</cp:lastModifiedBy>
  <dcterms:modified xsi:type="dcterms:W3CDTF">2012-03-28T08:20:04Z</dcterms:modified>
  <cp:revision>46</cp:revision>
  <dc:subject/>
  <dc:title>ГЕОИНФОРМАЦИОННЫЕ  СИСТ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T3bOm5ieSfrWHUHHD68aMGmmdS6mDkb7iBXQn8wv6j0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11180395154227528749</vt:lpwstr>
  </property>
  <property fmtid="{D5CDD505-2E9C-101B-9397-08002B2CF9AE}" pid="6" name="Google.Documents.RevisionId">
    <vt:lpwstr>18254811569439385094</vt:lpwstr>
  </property>
  <property fmtid="{D5CDD505-2E9C-101B-9397-08002B2CF9AE}" pid="7" name="Google.Documents.Tracking">
    <vt:lpwstr>true</vt:lpwstr>
  </property>
</Properties>
</file>